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58A3-1292-442A-87C3-0C66EF2DF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ARIS MON AMOU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4C1C-7252-4ED5-898A-5790330C46D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Piramida de sticl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este punctul principal de acces în muzeu, principala axa de circulatie in muze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E2CC-4E4D-4DC0-AAF5-850E17B0104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serica Sacre-Coeur e ultima ridicata din fondurile statului francez, imbina stilul roman cu cel bizantin. Adaposteste si unul dintre cele mai mari clopote din lume, “La Savoyarde”, de 19 t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E591-0AC0-4BF3-ADB5-9D0961BD922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hilippe Morel, </a:t>
            </a: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L'art de la Renaissance entre science et magie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, Rennes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Pierre Chaunu, </a:t>
            </a:r>
            <a:r>
              <a:rPr b="0" i="1" lang="ro-RO" sz="1200" spc="-1" strike="noStrike">
                <a:solidFill>
                  <a:srgbClr val="000000"/>
                </a:solidFill>
                <a:latin typeface="Calibri"/>
              </a:rPr>
              <a:t>Civilizaţia europeană în secolul luminilor</a:t>
            </a: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, Buc., 198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Daniel Roche,</a:t>
            </a:r>
            <a:r>
              <a:rPr b="1" lang="ro-RO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Calibri"/>
              </a:rPr>
              <a:t>La France des Lumieres</a:t>
            </a: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, Paris,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Georges Duby,</a:t>
            </a:r>
            <a:r>
              <a:rPr b="0" i="1" lang="ro-RO" sz="1200" spc="-1" strike="noStrike">
                <a:solidFill>
                  <a:srgbClr val="000000"/>
                </a:solidFill>
                <a:latin typeface="Calibri"/>
              </a:rPr>
              <a:t> Histoire de la France des origines a nos jours</a:t>
            </a: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, Larousee,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4ABC-4A28-481B-B1C9-877CA72D596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UM INFLUENTEAZA CUNOASTEREA ISTORIEI VIATA OAMENILOR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620B-EC4E-4B0A-8747-C86EC7B2AA5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noasterea istoriei, obiceiurilor si traditiile unei tari ne ajuta sa ne imbogatim cunostintele pe care le putem folosi apoi in viata cotidia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F603-8078-419B-A559-9AC0B1DF50B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zentarea este o incursiune in cultura si civilizatia Frantei in cadrul unui circuit turistic, cu scopul de a cunoaste si aprofunda cunostintele despre centrul si monumentele Parisulu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9DD9-0ED2-42ED-9F70-E4F5BAF9C68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ul Eiffel a fost construit intre 1887-1889, masoara 324 m si isi schimba inaltimea de cateva ori pe an, din cauza dilatarii aliajului. Necesita 70 tone de vopsea o data la 7 an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62B3-5C2B-499D-92AA-CD481606761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Turnu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este una dintre principalele destinaţii turistice ale Parisului şi lumii, cu mai mult de 5,5 milioane de vizitatori anual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fiecare ora fixa turnul se lumineaza pentru 10 min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93BE-006F-4920-9D36-142B2678CBF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 Bouquinistes de la Se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BE4C-6EF5-4C5B-9F02-72B5A6B4599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sailles,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Cel mai renumit palat din Franta, 350 de ani de istor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1F08-DF4E-4946-BCB2-D0B5A2455C9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vrul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este cel mai mare muzeu de istorie şi artă din Franţ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Adaposteste cele mai importante opere de arta din 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A7CC-DD35-43DB-9D3B-593198DFBB0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B11C-5B5B-4F51-A436-D6C8677D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CA83-BD10-4A85-A303-486239EB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355A-08FC-44E9-9505-568101D6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7CE6-330B-41CD-8C72-227483F3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9A77B-D43A-460C-BDC8-D4301815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3B8C4-025B-43E8-B00F-A671BC1B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3C562-3D18-4450-AF67-9869E05D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F0E4D-F333-43CF-B106-F40C6710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74498-004B-4873-AB7F-E1354645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7E648-E62A-4E89-9D9C-50BFF34A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36C35-65F1-4090-96FC-F2AF8E5B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B558-7A8B-4E3A-BDA5-7C73B920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019CC-7FFF-46A9-87EF-314E1397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20EDA-1CA2-42E3-8FAD-961083CC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E4E6B-0EF7-4765-AF10-59755263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7C470-C82B-41D9-AB85-9EFAFCAB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DB891-4072-4D24-A033-3FEDE2BB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90A-1B76-4A91-964A-724C2047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2E71-01EE-4943-86C2-DAC394F3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8A1-80DA-42B4-A069-BB727878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0805-4EBF-481E-B64A-7C421BEA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4524-12C2-4DD8-A25E-43F905C0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1081-DDA6-422B-A965-BAD55463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36E-30B7-4324-B22A-AD568283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6169-757F-47DF-A827-4A51E0058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B60D-AF0D-416D-944E-35CE7EA7F7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arc-de-triomphe[1]"/>
          <p:cNvPicPr/>
          <p:nvPr/>
        </p:nvPicPr>
        <p:blipFill>
          <a:blip r:embed="rId2"/>
          <a:stretch/>
        </p:blipFill>
        <p:spPr>
          <a:xfrm>
            <a:off x="-942840" y="-447840"/>
            <a:ext cx="11991960" cy="77536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 rot="20284200">
            <a:off x="1779840" y="3149640"/>
            <a:ext cx="1097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Rockwell Extra Bold"/>
              </a:rPr>
              <a:t>PARIS MON AMOU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Louvre-pyramid-daytime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457200" y="380880"/>
            <a:ext cx="487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4d"/>
                </a:solidFill>
                <a:latin typeface="Tahoma"/>
              </a:rPr>
              <a:t>Piramida de sticlă</a:t>
            </a:r>
            <a:r>
              <a:rPr b="0" lang="en-US" sz="3200" spc="-1" strike="noStrike">
                <a:solidFill>
                  <a:srgbClr val="00004d"/>
                </a:solidFill>
                <a:latin typeface="Script MT Bold"/>
              </a:rPr>
              <a:t> este punctul principal de acces în muzeu, principala axa de circulatie in muze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sacre_coeur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0" y="457200"/>
            <a:ext cx="64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Rockwell Extra Bold"/>
              </a:rPr>
              <a:t>Biserica Sacre-Coeur e ultima ridicata din fondurile statului francez, imbina stilul roman cu cel bizantin. Adaposteste si unul dintre cele mai mari clopote din lume, “La Savoyarde”, de 19 ton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montmartr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place de la concord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4343400" y="5335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d030c"/>
                </a:solidFill>
                <a:latin typeface="Tahoma"/>
              </a:rPr>
              <a:t>Philippe Morel, </a:t>
            </a:r>
            <a:r>
              <a:rPr b="0" i="1" lang="fr-FR" sz="1800" spc="-1" strike="noStrike">
                <a:solidFill>
                  <a:srgbClr val="0d030c"/>
                </a:solidFill>
                <a:latin typeface="Tahoma"/>
              </a:rPr>
              <a:t>L'art de la Renaissance entre science et magie</a:t>
            </a:r>
            <a:r>
              <a:rPr b="0" lang="fr-FR" sz="1800" spc="-1" strike="noStrike">
                <a:solidFill>
                  <a:srgbClr val="0d030c"/>
                </a:solidFill>
                <a:latin typeface="Tahoma"/>
              </a:rPr>
              <a:t>, Rennes, 2005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d030c"/>
                </a:solidFill>
                <a:latin typeface="Tahoma"/>
              </a:rPr>
              <a:t>Pierre Chaunu, </a:t>
            </a:r>
            <a:r>
              <a:rPr b="0" i="1" lang="ro-RO" sz="1800" spc="-1" strike="noStrike">
                <a:solidFill>
                  <a:srgbClr val="0d030c"/>
                </a:solidFill>
                <a:latin typeface="Tahoma"/>
              </a:rPr>
              <a:t>Civilizaţia europeană în secolul luminilor</a:t>
            </a:r>
            <a:r>
              <a:rPr b="0" lang="ro-RO" sz="1800" spc="-1" strike="noStrike">
                <a:solidFill>
                  <a:srgbClr val="0d030c"/>
                </a:solidFill>
                <a:latin typeface="Tahoma"/>
              </a:rPr>
              <a:t>, Buc., 198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d030c"/>
                </a:solidFill>
                <a:latin typeface="Tahoma"/>
              </a:rPr>
              <a:t>Daniel Roche,</a:t>
            </a:r>
            <a:r>
              <a:rPr b="1" lang="ro-RO" sz="1800" spc="-1" strike="noStrike">
                <a:solidFill>
                  <a:srgbClr val="0d030c"/>
                </a:solidFill>
                <a:latin typeface="Tahoma"/>
              </a:rPr>
              <a:t> </a:t>
            </a:r>
            <a:r>
              <a:rPr b="0" i="1" lang="ro-RO" sz="1800" spc="-1" strike="noStrike">
                <a:solidFill>
                  <a:srgbClr val="0d030c"/>
                </a:solidFill>
                <a:latin typeface="Tahoma"/>
              </a:rPr>
              <a:t>La France des Lumieres</a:t>
            </a:r>
            <a:r>
              <a:rPr b="0" lang="ro-RO" sz="1800" spc="-1" strike="noStrike">
                <a:solidFill>
                  <a:srgbClr val="0d030c"/>
                </a:solidFill>
                <a:latin typeface="Tahoma"/>
              </a:rPr>
              <a:t>, Paris,1993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d030c"/>
                </a:solidFill>
                <a:latin typeface="Tahoma"/>
              </a:rPr>
              <a:t>Georges Duby,</a:t>
            </a:r>
            <a:r>
              <a:rPr b="0" i="1" lang="ro-RO" sz="1800" spc="-1" strike="noStrike">
                <a:solidFill>
                  <a:srgbClr val="0d030c"/>
                </a:solidFill>
                <a:latin typeface="Tahoma"/>
              </a:rPr>
              <a:t> Histoire de la France des origines a nos jours</a:t>
            </a:r>
            <a:r>
              <a:rPr b="0" lang="ro-RO" sz="1800" spc="-1" strike="noStrike">
                <a:solidFill>
                  <a:srgbClr val="0d030c"/>
                </a:solidFill>
                <a:latin typeface="Tahoma"/>
              </a:rPr>
              <a:t>, Larousee,1995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UM INFLUENTEAZA CUNOASTEREA ISTORIEI VIATA OAMENILO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4653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arc-triomphe-carrousel[1]"/>
          <p:cNvPicPr/>
          <p:nvPr/>
        </p:nvPicPr>
        <p:blipFill>
          <a:blip r:embed="rId2"/>
          <a:stretch/>
        </p:blipFill>
        <p:spPr>
          <a:xfrm>
            <a:off x="-1371600" y="-228600"/>
            <a:ext cx="1150632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8"/>
          <p:cNvSpPr/>
          <p:nvPr/>
        </p:nvSpPr>
        <p:spPr>
          <a:xfrm rot="20163600">
            <a:off x="650160" y="1742400"/>
            <a:ext cx="5551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uhaus 93"/>
              </a:rPr>
              <a:t>CUM INFLUENTEAZA CUNOASTEREA ISTORIEI VIATA OAMENILO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grande-arche-paris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 rot="20273400">
            <a:off x="-734400" y="2116440"/>
            <a:ext cx="936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ladimir Script"/>
              </a:rPr>
              <a:t>Cunoasterea istoriei, obiceiurilor si traditiile unei tari ne ajuta sa ne imbogatim cunostintele pe care le putem folosi apoi in viata cotidian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ARCHE031"/>
          <p:cNvPicPr/>
          <p:nvPr/>
        </p:nvPicPr>
        <p:blipFill>
          <a:blip r:embed="rId2"/>
          <a:stretch/>
        </p:blipFill>
        <p:spPr>
          <a:xfrm>
            <a:off x="457200" y="0"/>
            <a:ext cx="8686800" cy="73915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762120" y="457200"/>
            <a:ext cx="6095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d"/>
                </a:solidFill>
                <a:latin typeface="Script MT Bold"/>
              </a:rPr>
              <a:t>Prezentarea este o incursiune in cultura si civilizatia Frantei in cadrul unui circuit turistic, cu scopul de a cunoaste si aprofunda cunostintele despre centrul si monumentele Parisulu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eiffel-tower-lb5[1]"/>
          <p:cNvPicPr/>
          <p:nvPr/>
        </p:nvPicPr>
        <p:blipFill>
          <a:blip r:embed="rId2"/>
          <a:stretch/>
        </p:blipFill>
        <p:spPr>
          <a:xfrm>
            <a:off x="-685800" y="0"/>
            <a:ext cx="98298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228600" y="76212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 Condensed"/>
              </a:rPr>
              <a:t>Turnul Eiffel a fost construit intre 1887-1889, </a:t>
            </a:r>
            <a:r>
              <a:rPr b="0" lang="it-IT" sz="2400" spc="-1" strike="noStrike">
                <a:solidFill>
                  <a:srgbClr val="ffffff"/>
                </a:solidFill>
                <a:latin typeface="Rockwell Condensed"/>
              </a:rPr>
              <a:t>in onoarea centenarului Revolutiei franceze, </a:t>
            </a:r>
            <a:r>
              <a:rPr b="0" lang="en-US" sz="2400" spc="-1" strike="noStrike">
                <a:solidFill>
                  <a:srgbClr val="ffffff"/>
                </a:solidFill>
                <a:latin typeface="Rockwell Condensed"/>
              </a:rPr>
              <a:t>masoara 324 m si isi schimba inaltimea de cateva ori pe an, din cauza dilatarii aliajului. Necesita 70 tone de vopsea o data la 7 an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eiffel-tower-night-xds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 rot="20671800">
            <a:off x="317520" y="1798560"/>
            <a:ext cx="62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ffffff"/>
                </a:solidFill>
                <a:latin typeface="Tahoma"/>
              </a:rPr>
              <a:t>Turnu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vi-VN" sz="1800" spc="-1" strike="noStrike">
                <a:solidFill>
                  <a:srgbClr val="ffffff"/>
                </a:solidFill>
                <a:latin typeface="Tahoma"/>
              </a:rPr>
              <a:t>este una dintre principalele destinaţii turistice ale Parisului şi lumii, cu mai mult de 5,5 milioane de vizitatori anual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 fiecare ora fixa turnul se lumineaza pentru 10 minu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la place du tertr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5031720" y="594360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Les Bouquinistes de la Se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louvre-museum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228600" y="502920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ush Script MT"/>
                <a:ea typeface="Estrangelo Edessa"/>
              </a:rPr>
              <a:t>Versailles, </a:t>
            </a:r>
            <a:r>
              <a:rPr b="0" lang="it-IT" sz="3200" spc="-1" strike="noStrike">
                <a:solidFill>
                  <a:srgbClr val="ff0000"/>
                </a:solidFill>
                <a:latin typeface="Brush Script MT"/>
                <a:ea typeface="Estrangelo Edessa"/>
              </a:rPr>
              <a:t>Cel mai renumit palat din Franta, 350 de ani de istor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louvre-pyramid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 rot="1291800">
            <a:off x="2705040" y="13860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vrul </a:t>
            </a:r>
            <a:r>
              <a:rPr b="0" lang="vi-VN" sz="2400" spc="-1" strike="noStrike">
                <a:solidFill>
                  <a:srgbClr val="ffffff"/>
                </a:solidFill>
                <a:latin typeface="Tahoma"/>
              </a:rPr>
              <a:t>este cel mai mare muzeu de istorie şi artă din Franţ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Adaposteste cele mai importante opere de arta din lu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9:34:49Z</dcterms:created>
  <dc:creator>sabin&amp;lumi</dc:creator>
  <dc:description/>
  <dc:language>en-US</dc:language>
  <cp:lastModifiedBy>elev1</cp:lastModifiedBy>
  <dcterms:modified xsi:type="dcterms:W3CDTF">2010-09-01T09:08:28Z</dcterms:modified>
  <cp:revision>17</cp:revision>
  <dc:subject/>
  <dc:title>Slide 1</dc:title>
</cp:coreProperties>
</file>